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1FF-B42D-4112-9635-045AE06D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103-F651-44DE-9CCB-7BEE13BB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872-0276-4DB6-8A9B-16F32B57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863-8D48-4B1B-AA53-BC74625B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BBCD-9CF2-4517-AC34-2CFEED12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625C-EC0C-4D91-B459-5D892190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D3B-42C8-4F5B-845C-4D52DCE9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3352-16E7-4E63-9E4A-63DDD7C1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F5AA-AAED-407A-8EAC-746B07AB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494-C782-46DF-B343-A728D1A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97E9-7700-45AB-AAEB-DE5097A4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2CA-432F-43E8-B438-AF726492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D3EA-6A37-4682-9B8E-C8B58E61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4625-26BF-44F8-AE71-6391E78A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C32E-C7B5-4AD6-961E-E8F744FD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90E6-09BF-4258-B4AA-7655BF17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B618-8D0A-409C-8F5B-89C91AB3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5A0-5BE8-4723-8D6F-3618D45B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199-CC57-4843-88D1-990110DC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1E0-6AFA-468A-83BA-DE99A04E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E48-A2C5-4F50-AE0F-8DE675D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72A-DDB3-4E64-B102-7DF9D74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D81-B529-42ED-8A32-9F2488A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89B-BEA3-491E-9A5E-7917D046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AF1-F181-4AF2-B4F9-6B9253782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DF06-D4F4-439E-B4E3-3EBC3A1C3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Early Middle Ag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Dark in these ages, which was problematic as many Europeans were afraid of the dark…or maybe that is not why this time period was so diffic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es one manage to rule such a large empir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magne divides empire in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unt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giving land to people called “coun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how many counties are there in Ct.?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s -&gt; land in exchange for which they were expected to serve the Lord (Feudalis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Where does one find so much money to run an empir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axes and trade of course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yal est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&gt;Money!!!-&gt;runs govt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 US Government get money???, how much do you think it spends?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. Balazs loves Charlemagne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lemagne loved learning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ors-&gt; Courts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asteries and cathedrals opened schools to train monks and pri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ASTERIESINCREASEDLIBRARIESANDCREATEDILLUMINATEDMANUSCRI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rolingian minisc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5" descr="51244170"/>
          <p:cNvPicPr/>
          <p:nvPr/>
        </p:nvPicPr>
        <p:blipFill>
          <a:blip r:embed="rId1"/>
          <a:stretch/>
        </p:blipFill>
        <p:spPr>
          <a:xfrm>
            <a:off x="6784920" y="5003640"/>
            <a:ext cx="2359080" cy="185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BK%20initial%20jpeg"/>
          <p:cNvPicPr/>
          <p:nvPr/>
        </p:nvPicPr>
        <p:blipFill>
          <a:blip r:embed="rId2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149" name="Line 8"/>
          <p:cNvSpPr/>
          <p:nvPr/>
        </p:nvSpPr>
        <p:spPr>
          <a:xfrm>
            <a:off x="5334120" y="464832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lemagne and the Po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lemagne declared Holy Roman Emper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by the Pop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LY ROMAN EMPEROR (H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he really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wasn’t a church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man Empire was in the E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pe, not the Senate or the People made him Empe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etheless -&gt; he’s now the H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empire do you think resented his new title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harlemagne’s heirs ruled weak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, Louis the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&gt; poor leader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is (Charlemagne’s son) -&gt; three sons… fought until-&gt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eaty of Verd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sentially created France and Germany- later led to wars about where the borders of each country should be—LIKE WWI and WWII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&gt; weaknes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roling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arol=Charles) k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&gt;Vulnerability -&gt; VIKINGS AND MAGYARS- TRIBES FROM NORTH AND EAST INVADE EU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t Charlemagne Map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KISH_08_188"/>
          <p:cNvPicPr/>
          <p:nvPr/>
        </p:nvPicPr>
        <p:blipFill>
          <a:blip r:embed="rId1"/>
          <a:stretch/>
        </p:blipFill>
        <p:spPr>
          <a:xfrm>
            <a:off x="2590920" y="1143000"/>
            <a:ext cx="3987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was Charlemagne’s Impac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R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R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r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the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 and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,France-&gt; 4 important leader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magne -&gt; mos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Gaul now France????- Barbarians in France -&gt; “The Frank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ovis – late 6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Centu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es Franks spreads power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ianizes Gaul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good means of succ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rovingia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descendants of Clovis) – fought over who would tak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ings turn around though…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ore than 100 yrs later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les Mart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harles the Hamm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s power of Fra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-&gt; Battle of Tours (732), driving back Islam into Sp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, Pepin the Short- &gt;dynast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martel"/>
          <p:cNvPicPr/>
          <p:nvPr/>
        </p:nvPicPr>
        <p:blipFill>
          <a:blip r:embed="rId1"/>
          <a:stretch/>
        </p:blipFill>
        <p:spPr>
          <a:xfrm>
            <a:off x="2057400" y="4094280"/>
            <a:ext cx="47242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epin the Short 8C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pin agreed to fight the Lombards to help the P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turn, Pepin named king by -&gt; P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ne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g has political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iritu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pin expands Frankish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p_nobile_sala3_05"/>
          <p:cNvPicPr/>
          <p:nvPr/>
        </p:nvPicPr>
        <p:blipFill>
          <a:blip r:embed="rId1"/>
          <a:stretch/>
        </p:blipFill>
        <p:spPr>
          <a:xfrm>
            <a:off x="0" y="4416480"/>
            <a:ext cx="2666880" cy="2441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pepin"/>
          <p:cNvPicPr/>
          <p:nvPr/>
        </p:nvPicPr>
        <p:blipFill>
          <a:blip r:embed="rId2"/>
          <a:stretch/>
        </p:blipFill>
        <p:spPr>
          <a:xfrm>
            <a:off x="6316560" y="4343400"/>
            <a:ext cx="24274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epin the short has a gigantic son…Charles the Great…who has a gigantic life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s the Great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harlemag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Carolus Magnu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physical, very active, very big, very intellectu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ar, the king himself commanded the armies and fought in the front line.  Every spring, Charlemagne called together all the great landowners of the kingdom, both nobles and bishop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250px-Charlemagne-by-Durer"/>
          <p:cNvPicPr/>
          <p:nvPr/>
        </p:nvPicPr>
        <p:blipFill>
          <a:blip r:embed="rId1"/>
          <a:stretch/>
        </p:blipFill>
        <p:spPr>
          <a:xfrm>
            <a:off x="533520" y="1143000"/>
            <a:ext cx="2209680" cy="4905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oronation_of_Charlemagne2"/>
          <p:cNvPicPr/>
          <p:nvPr/>
        </p:nvPicPr>
        <p:blipFill>
          <a:blip r:embed="rId2"/>
          <a:stretch/>
        </p:blipFill>
        <p:spPr>
          <a:xfrm>
            <a:off x="4343400" y="1447920"/>
            <a:ext cx="38098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harlemagne the Conqueror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ate 8C to early 9C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s South &amp; E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magne, like his father (Who was???), protected Italy and the P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ght Saxons and Avars- (other Barbarian Trib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ced baptisms- demanded people became Christ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ne leader – One God - One Reli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lemagne’s land surpasses the Eastern Roman Empire’s in size (which had shra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harlemagne expands Frankish lan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8" descr="KISH_08_180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3:48:53Z</dcterms:created>
  <dc:creator>Darien Public Schools</dc:creator>
  <dc:description/>
  <dc:language>en-US</dc:language>
  <cp:lastModifiedBy>Local User</cp:lastModifiedBy>
  <dcterms:modified xsi:type="dcterms:W3CDTF">2013-12-03T12:18:07Z</dcterms:modified>
  <cp:revision>37</cp:revision>
  <dc:subject/>
  <dc:title>The Middle Ages…Expansion of Power</dc:title>
</cp:coreProperties>
</file>